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8D5-BBEA-4740-BD99-D506AF3B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F7D-CD7B-4BE0-9817-63576853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A31-8904-4390-87FA-CC16974B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63F-4129-47ED-B841-AB6DD60A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C58-728F-4BCB-A893-86C7FA38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37D-7674-429D-9C03-9FB7554A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D76-B83F-44D4-BD7E-CEFC2318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558-F3F5-436E-90E0-786227DB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802-CE54-4A96-889F-9C7A0C73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5A8-2843-469C-A5DF-45E6E934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92F-42A5-4986-8919-3C45A199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423-4AD5-4A32-9069-E4E3DD6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116C-2F29-4B3F-9BD7-D8F48BD89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378000" y="476280"/>
            <a:ext cx="8285040" cy="27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http://razorpix.ru/s/37/doroga_protektor_zima_sneg_nast_alleya_solnce_nebo_tuchi_1920x128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http://xn----ftbebqosbgnd.xn--p1ai/uploads/posts/2012-06/1340371940_sosulki-6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http://www.tmfoto.ru/upload/iblock/78f/78f2e9d7aa9231751ed8d0ac220922a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vedtver.ru/data/uploads/2013-01/page/14659/130123pogoda.jpg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http://img-fotki.yandex.ru/get/5208/geteway.6/0_5028b_afa1378d_X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09Z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028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ый снег пуши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оздухе круж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 землю ти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ает, лож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д утро сне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 забел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но пеленою все его оде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ный лес, что шап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акрылся чу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заснул под не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о, непробудн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3" descr="http://www.fonstola.ru/pic/201112/800x600/fonstola.ru-648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http://www.fonstola.ru/pic/201111/1024x768/fonstola.ru-4935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4:12:21Z</dcterms:created>
  <dc:creator>USER</dc:creator>
  <dc:description/>
  <dc:language>en-US</dc:language>
  <cp:lastModifiedBy>Пользователь Windows</cp:lastModifiedBy>
  <dcterms:modified xsi:type="dcterms:W3CDTF">2020-12-03T09:40:09Z</dcterms:modified>
  <cp:revision>37</cp:revision>
  <dc:subject/>
  <dc:title>Слайд 1</dc:title>
</cp:coreProperties>
</file>